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EB665-7BB4-413B-B138-2E1638DC7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s: Countries that are the most are England and 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s for overtaking a country: natural resources, power, money, gr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51F26-0D78-4940-8A8E-98BEBC063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708-D190-4D88-BB57-58DAEB26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2D8-321E-4B88-8E54-4BF944D0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D0090-71F9-4117-A440-CB3718C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43F1-5BCE-46FA-BED1-D9EBCBE2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D1F6-97DF-4459-9546-9A6CBE9D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D8783-38DF-4043-9C09-1185D0B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485FD-C81E-4271-A3A3-F0B9880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40BB4-0926-4E8B-8566-653B184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E591F-02A8-4047-B0DA-E375A1FF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E074D-FFE8-428D-A74A-26CAECA7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E990-D50B-4194-BFFA-8625AE25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03B84-6E04-4E60-94F8-671CB1D9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EBF-6F4C-4F78-9EF2-3B105F6E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61EFA-4967-4438-9E76-B14D239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0AEF7-9F2D-4084-87A6-E67B7645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E1CC5-238A-48F1-ADAC-939563D9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D4C63-CACE-44C1-BB65-92829D7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C48D6-9D82-430B-865C-7EFDF00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EA822-0615-49B1-95EF-096FE22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EDCE4-9EFA-46B7-8AA3-B0683FD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8AB7-968A-4913-B80F-388247A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874B0-1FFF-4D5D-964D-8FE9E8B0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9ED2A-5AF2-4F42-8DDF-1E7FE436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A68-E091-49E2-B039-F8CC153E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EC680-4F96-4C2A-8C66-6710BADC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A211-3ACD-4184-B997-57BEC5BB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0A838-88F2-4F93-9A6E-A00CBD4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0D37-7DEE-4041-9F70-B758FF20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5D176-4F00-4440-8048-CBF3DE2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0D6AF-DB6B-4B55-9BD2-E4DCAC4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A1479-3A11-415E-9914-FD6C60EB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DB220-EF06-404C-B8DD-CC7F719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E4623-79FB-4B59-BC63-06E2A21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67C40-543E-4E9A-87BB-201DE53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379-33AD-4470-93AF-7FD57B19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1FBC3-CFCA-424B-8EE2-BA29C87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61AED-143F-4A98-A61A-69EAFC58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AFD21-50FC-442E-9869-71A04E7D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BAA5-5EBE-4623-8188-8569F2FE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BBA-2AC1-4C15-9A89-AD700C97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0E87-2313-49C6-A8E2-295E597E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B6B5-9953-4D64-8D72-630DDBC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233C-3BE7-4BF5-BDA0-245DFE48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3976-1D30-4F42-8FCD-A63C91F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252-F408-4A75-98C7-26F89852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C727-1DE7-4F54-8FEB-4DF84FF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142-505D-4D0D-AEE7-F860D885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CD2D-BFA6-4B4E-B9E8-1739E64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D39E-46B5-408E-88A7-E425F1EA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8C97-49B2-4FFB-8F43-BAC42CE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17CF-D241-478E-8E7A-E19A7AD4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3063-E235-48BD-ABC8-D6A9BA6C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3F49-0060-4C22-9614-3BFDAB62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6C24-918A-4721-A2D7-183DB16F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ACAF-EA97-4707-A8F2-0C4579D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E2A-528D-4155-9652-2B4167FA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AB93-DDA7-4B19-9288-DE3FA421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E150-A5F8-4916-BD86-3B04A99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1297-2779-43A1-A744-3F58A35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7DF5-75F0-438C-9FFB-82D8BAD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4142-BD1C-411C-9016-D8D3E46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C8FB-5A87-449D-AA7D-9DD71FFB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9385-9821-4C2B-914A-4B506C99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8766-9FB3-4629-AAAD-C76ABD50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052A-9D2F-4DCD-922F-E725279D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7D56-F656-4157-B5C8-08FE4CDA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F6D-D43B-4DF3-933D-9B84A2CE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1836-F1BE-4746-87CB-94B3ED48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7864-1E1C-4067-B18D-6A891AB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A189-1232-4A26-8F20-A15583D3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1C6F-FD45-48E1-868B-A61961E1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D97C-BC49-4599-A1DC-BF6DF74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DFE4-A36F-4837-A0AC-5B86C62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DAA0-B9F1-4895-B19A-E2D735C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B75A-93EB-4D35-8E5A-76C18A65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F71E-19AA-44C9-BF84-454E8653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C9A4-9561-403E-A20C-CC102B10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EF2-2495-448D-9D63-E279D5AA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9A8AF-AFEC-4342-97A0-D9AF5C2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C685-1286-4BF3-A324-9C1B008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55C0-294F-4AAC-B21C-497B7998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2663-56D2-492A-ABBC-7863F32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5E95-4824-45F6-AD90-C1AA6D7C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3A38C-59C8-4198-A30B-E3F6F67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FFA3-249C-4891-96A5-266DA7D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978D-C50C-4CEC-9009-4F56731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0444-C643-4A2A-87DD-701BBC66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A78DC-A779-47DE-A742-8CF01881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C05-CAF1-493A-8945-A5AAD8F3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00599-DFC9-4299-8013-54843F8F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83E8-B384-454E-8F43-FA8D60A3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D4216-9357-45C9-9F50-B128BCBE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872F-1D79-4160-8F07-66005E2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209B-711C-4E84-8A59-C38DA6D8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6D6E-1F95-4058-BC0D-DFA7D70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BF2A6-14D6-4E12-BC8F-3B96DB03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888D-78B5-47B5-AC40-FA765CE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750E-5C69-4FDB-BF9E-A6B513C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9D49D-C2E7-47A0-AAD6-5C85509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D5D-EF96-4C0B-BC5E-89547BB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BD34-8231-42A5-82CA-EA12096A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C507-5908-4A52-B4DD-27963C10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B492-CFC8-491B-8376-ABBF1FE1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4E9C9-AA45-491C-BD71-3B4AE5BC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3438C-3BE6-427D-8734-C4298DE1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DDB8F-A9F2-4D44-84BB-E3FF6CCB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9279-7AE5-4356-84AF-2477CA90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CC9F4-3156-43C5-B6D0-59432681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D9202-4E2C-4020-8D82-7C8609E1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F50E3-43E7-4D51-AC1F-D8F1B43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9AD-8941-4268-A75D-9FD5EF7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FB40E-5A7F-4980-8DE2-08D2D03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66213-2148-4FCD-8AB8-2C1009F0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592AA-9A22-4AB4-A3E5-39977065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12991-1D48-4503-BCFE-CDE64039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12504-B30F-4C80-BB50-092E667D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BFED-3968-49FF-AB6F-171236DF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8D296-4446-407A-9533-D42CF564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236A8-5076-475C-8F94-5430B51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8A3DF-0E4D-41CA-AEFF-1F472B1F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C4A6A-F16C-46EA-B1B0-73F0407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C72-9511-4881-99BB-85F60D0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3265F-7B29-4F10-AF2D-EDAA8E98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65CD-9AE1-43A3-9888-13B05F0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3EC8-175F-48D9-B611-5EBB8C1C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39A44-60E3-4529-BAE6-90D047F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EB385-D8B8-4B63-A6B0-A0EA517F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805BE-499E-435E-95EF-5344F053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7ED6F-AC75-4E6D-A894-A433CC9D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A2660-B67D-41E0-AE0E-201D62B7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6E7E9-292A-4F90-91D5-39AE4769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8F8BE-5DC7-4708-930A-CA7A8DA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6287B-436F-4692-8EAA-35E82FC93BE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38814-CFC8-4969-8711-65AC5757D1C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0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30178-C159-436D-B56C-EF1633B95B1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0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6B7B0-D029-44EE-9DE7-C3243DD1C5A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95031-1994-4590-B400-133569F80A6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0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FEB32-0BF2-401B-9E97-A12E26112B9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6CF20-D44A-4D07-B51A-AED6B69EDB7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CB7E4-5BBD-461E-B475-825476D0332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DFBEE-6EAF-409A-B852-8C425097706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0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3204E-0F6E-4C20-A744-FF938D63E75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0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15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10C07-42ED-4442-9FF6-C69F2565A11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public.iastate.edu/~cfford/342WorldHistoryModern.html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LEADING TO WW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1700 – 1900 SUMMA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ERIAL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tion: When one country takes over another country to build an empir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d equals power, which countries are the most powerful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y would a country want to take over another country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1442520" y="2015640"/>
            <a:ext cx="6572520" cy="344988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4"/>
          <p:cNvSpPr/>
          <p:nvPr/>
        </p:nvSpPr>
        <p:spPr>
          <a:xfrm>
            <a:off x="304920" y="63244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a2b5c"/>
                </a:solidFill>
                <a:uFillTx/>
                <a:latin typeface="Calibri"/>
                <a:hlinkClick r:id="rId3"/>
              </a:rPr>
              <a:t>http://www.public.iastate.edu/~cfford/342WorldHistoryModern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M.A.I.N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AJOR CAUSES OF WW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LITARISM (ARMS RAC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tion: Making your military bigger and better than other countr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y would you want your military bigger than other countrie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problems can arise when compete against other countries military strength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IA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agreement between two or more countries to help each other. It can include military help, money or providing of weapon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te 1800’s many countries in Europe made various alliances, Triple Entente (Britain, Russia and France) and The Dual Alliance (Germany and Austria-Hungar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USTRIAL REVOL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ring the 1800’s the Industrial Revolution was happening in Europ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the invention of factories, weapons were less expensive to produce allowing countries to improve and buy them in mass quantitie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ere also experimenting with new weapons such as airplanes, tanks, chemical warf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de for your count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does it mean to have pride for your country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you have pride for your country, what would do to help your country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9:16:25Z</dcterms:created>
  <dc:creator>USOE</dc:creator>
  <dc:description/>
  <dc:language>en-US</dc:language>
  <cp:lastModifiedBy>Grace</cp:lastModifiedBy>
  <dcterms:modified xsi:type="dcterms:W3CDTF">2016-11-16T01:13:28Z</dcterms:modified>
  <cp:revision>6</cp:revision>
  <dc:subject/>
  <dc:title>Leading to WWI</dc:title>
</cp:coreProperties>
</file>